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6E9-38C3-4515-97CB-44610737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E3-C691-4D4C-AD76-40BBFA76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2D3-1A75-4F21-A155-4DBFE0D2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78A-9057-4EA3-9371-4533E0DD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C780-5961-45D5-90B9-4509D0DD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311-C0EA-4CAC-A0A7-271ACC6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020A-8B92-4526-9F40-DFD0EF39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2DF8-E7DF-407D-99E9-4E12805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B8F-A3EC-4C64-A5DC-8A2A7A2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21A0-5253-4664-A9C6-06C0090F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C1BA-A2D2-4C10-8669-48ED351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563-4023-425F-A243-119BE66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C2E-BEC0-4C0C-AC54-5807976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0460-2474-4AEC-A37B-69D2DA6A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A7F-B6C3-4BF4-B8D2-CD647BA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7AA-EC08-4A22-9BFC-A5F947EF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9268-A65F-4071-AD60-32C0D380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A78F7-1B78-49A0-935A-1FBB30A9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0F47B-47A4-4F58-A529-E7DC763E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AE5E8-FF72-4B69-9CD7-09EAA86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4AF20-966E-4492-884E-1934A405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328AA-8EB2-4363-A241-E22F4525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041-935C-4224-A7AA-B18DD9FA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18F8D-0718-4701-BCFD-C3293E00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B7666-C911-4F07-88DF-A17C73A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2EC15-3DEA-4648-B42A-3E98742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E4EB9-34E4-436B-A918-39E5F9D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1A225-6AB0-43BF-9178-0CB88D2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FE179-D3B5-4CD6-A7BA-B34EFD4A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11CF1-484C-4A8C-8C49-719CCF4C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D3F49-1FA6-4736-998C-159ADFD8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77054-8BD3-4814-A940-019D9C72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B4CE2-D69B-4C52-AEB5-F18FB987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382-D179-4E85-99B1-B6D5A6C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018A7-AA92-47BD-8E1C-6364286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BD269-BB6A-47CA-B2BB-24E7D48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EEF0B-F90F-46A6-BC7B-8BF7CCA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F9640-4668-4EF1-922E-A56BD81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ABC6A-C1A8-4C69-BA17-3F553D59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D0420-C0D0-46FB-A1BD-7ACB739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32D36-CC9E-431D-A1E9-867BE21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59D2B-8861-44BD-B2DE-BF60634B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37B75-309F-4F6C-909D-CA606B8D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1D601-6B0C-43DE-A1F6-3BDDFAF4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B11-D2A8-4941-A3E4-EE6109C4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2A3BD-8E8F-4181-8CA1-21B4FDB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2AC89-AAD8-40F4-926F-7DB988E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EA602-2EB3-4348-B619-E8D9BDC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63A7C-3798-4C21-9C39-C6F122A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07DC8-41A2-4A6B-BE95-5D396AD7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115B8-682B-4BBA-B461-5D28C7A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4E518-9352-429B-8554-5D7CC3C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02E47-0088-4C41-AE33-3CBE38A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9086D-BC2D-4BF2-8A9A-1B1023E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BA9AD-0C8E-4C83-8571-FE0DBB78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438-A3E1-4ED7-B994-71E36827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B6014-4457-4B3C-942A-5C9C3E2E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4FB4-5F12-4B93-A677-843458D7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A5E01-61D5-4BC7-B007-D33058C0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A5FF-0F90-4A44-B17A-6171F8C0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A281-BCBD-439F-92FB-E0D9948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13E0-EFD4-4A34-B9DD-AACF86A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266D9-95B4-4EA9-96AD-8D780DD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EF32-1D4E-4EF2-8C3A-F6B5A9B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F536-A323-4F93-B516-4E1B631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2B8B1-5882-4774-A5F6-6E5F08C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283-8CC8-421C-96F9-8B0B2D1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66F42-2297-4440-8402-824A9367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B201-5495-4285-BA58-7BA44751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6B22-7843-451B-BCA9-B6FCE613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8B4AE-2296-4D26-A973-28C15E2D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165EE-25C1-4FE6-9270-0A161407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6826A-9436-429E-9946-F660480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8E6EA-F0FA-4C3E-9425-54DD8817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01C22-8FEA-42C8-A447-F539E19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309EF-A17F-416B-8471-456BBE2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4CF9D-592B-4FC5-AC2E-18D2DEE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5A2-93E2-42C7-80D1-25F05B7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8F72B-0A95-49E1-A744-03ADEFE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CEEBD-D653-439F-8352-CCF14CC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628BC-D450-4909-87F3-4A80C90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E375E-0F77-4AEB-92C3-409EB29C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9BC2C-3374-411A-91CE-AF192891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F8A0-6222-49CA-9E94-DA965B50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0EAE-879F-487D-9BC7-6B37CE0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F1A7-9E62-421F-9E74-031BB6FE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0B8A-E8F6-4ECB-8288-6C6D00B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41A7-71F9-4FCA-A60D-171C616B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469-3F00-41EA-9E0C-D7996753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E9AD-F2AE-4F8C-B53B-6C5AE33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F417-ECB6-4E07-ABC0-1647769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87DA-B76F-4B44-9547-0CFBA2F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DA09-FDEB-4625-BE68-0932657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210C-DDD5-4E02-AF4B-702D445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818C0-ABF0-4059-BAE8-EB09832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5A5C-BFFE-4806-9D52-E9E16BA9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0B1-B952-4B33-98A3-1749439F2B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127C-84FF-47D6-8668-A0136F1118B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BB3A-E0A2-4CEB-A207-22264D038E2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96E6-E5CE-4840-869F-63ABABDFA6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1748-5219-418B-BBA6-018DBD98D8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89C-584E-49D1-8066-8220890D322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610-AB07-4DAF-9323-1ED0AB58251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35D5-5043-417D-A0FE-9D78B3873C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MOVIMIENTO DE LOS NO ALINEADO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tivos de China para unirse al MNA…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vitar ser dominada por la URSS o por E.U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Quería presentarse como líder de los recién liberados estados ex-colonial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ste movimiento podía acomodarse a su forma de presentar el Marxism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336840" y="1379520"/>
            <a:ext cx="5556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primera conferencia de estados no-alineados se llevó a cabo en Bandung, Indonesia, en 195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conferencia fue iniciada por Tito y luego apoyada por Nehru y Zhou En-la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jetivo: incrementar la membrecía del bloque independiente fomentando la neutralidad en la Guerra Fr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2" descr="http://www.freewebs.com/abdolrashidi/abdolrashidi%20&amp;%20nam.jpg"/>
          <p:cNvPicPr/>
          <p:nvPr/>
        </p:nvPicPr>
        <p:blipFill>
          <a:blip r:embed="rId1"/>
          <a:stretch/>
        </p:blipFill>
        <p:spPr>
          <a:xfrm>
            <a:off x="150840" y="1728720"/>
            <a:ext cx="3052800" cy="4364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asser, MNA y la Guerra Fr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tre los que asistieron a la conferencia en Bandung, se encontraba el general Nasser, de Egip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resionado por los puntos de vista, Nasser decidió adoptar la postura neutral en la Guerra Fr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2" descr="http://euro-synergies.hautetfort.com/media/01/02/2075761758.jpg"/>
          <p:cNvPicPr/>
          <p:nvPr/>
        </p:nvPicPr>
        <p:blipFill>
          <a:blip r:embed="rId1"/>
          <a:stretch/>
        </p:blipFill>
        <p:spPr>
          <a:xfrm rot="20482200">
            <a:off x="3516120" y="4052520"/>
            <a:ext cx="280656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guiendo la filosofía no-alineada de ‘cortejar’ a las superpotencias, Nasser desató una crisis en el oriente medi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sser pidió apoyo económico a los Estados Unidos, pero compró armas en la Unión Soviétic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 la crisis de Suez, Nasser logró equilibrar a ambas superpotencias y salir como ganado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sser humilló a las potencias en la crisis del Canal de Sue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pués de la crisis, logró quedarse con el canal y convertirse en el líder del nacionalismo Ára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http://www.portalplanetasedna.com.ar/archivos_varios/suez01.jpg"/>
          <p:cNvPicPr/>
          <p:nvPr/>
        </p:nvPicPr>
        <p:blipFill>
          <a:blip r:embed="rId1"/>
          <a:stretch/>
        </p:blipFill>
        <p:spPr>
          <a:xfrm>
            <a:off x="3255840" y="3621240"/>
            <a:ext cx="3102120" cy="307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1280" y="198864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Movimiento No-Alineado tuvo dos logros principa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mostró que las superpotencias no siempre pueden manipular a los países más pequeñ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mostró que las superpotencias no obtienen siempre lo que quie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 Guerra Fría y el M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Picture 2" descr="http://4.bp.blogspot.com/-o8p98kenSxE/Tt39l_UJCCI/AAAAAAAAAGY/WEI_6pkS2Cc/s1600/yugoslavia.png"/>
          <p:cNvPicPr/>
          <p:nvPr/>
        </p:nvPicPr>
        <p:blipFill>
          <a:blip r:embed="rId1"/>
          <a:stretch/>
        </p:blipFill>
        <p:spPr>
          <a:xfrm>
            <a:off x="684360" y="2060640"/>
            <a:ext cx="32572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4" name="4 CuadroTexto"/>
          <p:cNvSpPr/>
          <p:nvPr/>
        </p:nvSpPr>
        <p:spPr>
          <a:xfrm>
            <a:off x="5219640" y="1700280"/>
            <a:ext cx="331308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pues de la Guerra, Yugoslavia estaba dedicada al Comunismo bajo el mando de Marshal Ti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5 CuadroTexto"/>
          <p:cNvSpPr/>
          <p:nvPr/>
        </p:nvSpPr>
        <p:spPr>
          <a:xfrm>
            <a:off x="4427640" y="4508640"/>
            <a:ext cx="396072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ba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ugoslavia había estado luchando por soberanía, lo cual los guió a una ruptura de relaciones con Stalin en 1948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640" y="3499920"/>
            <a:ext cx="4546800" cy="298620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U. ofrece ayuda a Tito, lo cual es visto por este como una oportunidad de resguardar el país de una invasión por parte de los Sovié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nypost.com/rw/nypost/2011/09/11/news/web_photos/11.1n021.yugohouse2--300x300.jpg"/>
          <p:cNvPicPr/>
          <p:nvPr/>
        </p:nvPicPr>
        <p:blipFill>
          <a:blip r:embed="rId1"/>
          <a:stretch/>
        </p:blipFill>
        <p:spPr>
          <a:xfrm>
            <a:off x="5699160" y="3097080"/>
            <a:ext cx="3036960" cy="304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gisxxi.org/wp-content/uploads/2011/09/estados-unidos-.jpg"/>
          <p:cNvPicPr/>
          <p:nvPr/>
        </p:nvPicPr>
        <p:blipFill>
          <a:blip r:embed="rId2"/>
          <a:stretch/>
        </p:blipFill>
        <p:spPr>
          <a:xfrm>
            <a:off x="1468440" y="36360"/>
            <a:ext cx="4859280" cy="3640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1.bp.blogspot.com/-9-LBWagXqT0/TXyzi7Xvx6I/AAAAAAAAAAM/25PzIjct04U/s1600/urss_vs_usa.jpg"/>
          <p:cNvPicPr/>
          <p:nvPr/>
        </p:nvPicPr>
        <p:blipFill>
          <a:blip r:embed="rId1"/>
          <a:stretch/>
        </p:blipFill>
        <p:spPr>
          <a:xfrm>
            <a:off x="4138560" y="225360"/>
            <a:ext cx="5883480" cy="5353200"/>
          </a:xfrm>
          <a:prstGeom prst="rect">
            <a:avLst/>
          </a:prstGeom>
          <a:ln w="0">
            <a:noFill/>
          </a:ln>
        </p:spPr>
      </p:pic>
      <p:sp>
        <p:nvSpPr>
          <p:cNvPr id="360" name="4 CuadroTexto"/>
          <p:cNvSpPr/>
          <p:nvPr/>
        </p:nvSpPr>
        <p:spPr>
          <a:xfrm>
            <a:off x="611280" y="1844640"/>
            <a:ext cx="3600360" cy="2288520"/>
          </a:xfrm>
          <a:prstGeom prst="rect">
            <a:avLst/>
          </a:prstGeom>
          <a:solidFill>
            <a:srgbClr val="968c8c"/>
          </a:solidFill>
          <a:ln w="19080">
            <a:solidFill>
              <a:srgbClr val="6d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nte la intervención de E.U., la URSS optó por no invadir, pero realizó varios intentos de asesinato contra Ti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5 CuadroTexto"/>
          <p:cNvSpPr/>
          <p:nvPr/>
        </p:nvSpPr>
        <p:spPr>
          <a:xfrm>
            <a:off x="1116000" y="4525920"/>
            <a:ext cx="4535640" cy="2654280"/>
          </a:xfrm>
          <a:prstGeom prst="rect">
            <a:avLst/>
          </a:prstGeom>
          <a:solidFill>
            <a:srgbClr val="a5ab81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ito evitó a la vez relacionarse mucho con Estados Unidos para así evitar que Yugoslavia cediera al capitalismo, mostrando así su pensamiento de no-alinead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23640" y="847440"/>
            <a:ext cx="532764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lin muere en 195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ruschev es invitado a Belgrado por Tito, a quien trata como un igual esperando así un nuevo acercamiento entre ambas naci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http://www.historiasiglo20.org/IMAG/images/27-1948-1955.gif"/>
          <p:cNvPicPr/>
          <p:nvPr/>
        </p:nvPicPr>
        <p:blipFill>
          <a:blip r:embed="rId1"/>
          <a:stretch/>
        </p:blipFill>
        <p:spPr>
          <a:xfrm>
            <a:off x="171360" y="3713040"/>
            <a:ext cx="4297320" cy="2895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ttp://www.venamimundo.com/GrandesPersonajes/Kruschev/Kruschev-04.jpg"/>
          <p:cNvPicPr/>
          <p:nvPr/>
        </p:nvPicPr>
        <p:blipFill>
          <a:blip r:embed="rId2"/>
          <a:stretch/>
        </p:blipFill>
        <p:spPr>
          <a:xfrm>
            <a:off x="5589720" y="1859040"/>
            <a:ext cx="3462120" cy="4859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http://www.corbisimages.com/images/Corbis-BE065520.jpg?size=67&amp;uid=655f512f-ef15-4a9f-af5b-5571a2af0650"/>
          <p:cNvPicPr/>
          <p:nvPr/>
        </p:nvPicPr>
        <p:blipFill>
          <a:blip r:embed="rId1"/>
          <a:stretch/>
        </p:blipFill>
        <p:spPr>
          <a:xfrm rot="20889600">
            <a:off x="565200" y="1952280"/>
            <a:ext cx="2879640" cy="4054320"/>
          </a:xfrm>
          <a:prstGeom prst="rect">
            <a:avLst/>
          </a:prstGeom>
          <a:ln w="0">
            <a:noFill/>
          </a:ln>
        </p:spPr>
      </p:pic>
      <p:sp>
        <p:nvSpPr>
          <p:cNvPr id="366" name="4 CuadroTexto"/>
          <p:cNvSpPr/>
          <p:nvPr/>
        </p:nvSpPr>
        <p:spPr>
          <a:xfrm>
            <a:off x="4211640" y="1773360"/>
            <a:ext cx="4248000" cy="4786560"/>
          </a:xfrm>
          <a:prstGeom prst="rect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Kruschev y George Malenkov buscan a Tito en 1975 buscando su aprobación para terminar con el levantamiento de Hungría, nos demuestran que Tito realmente logró causar un impacto político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crecimiento del M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Rectángulo redondeado"/>
          <p:cNvSpPr/>
          <p:nvPr/>
        </p:nvSpPr>
        <p:spPr>
          <a:xfrm>
            <a:off x="1476360" y="350028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5 Rectángulo redondeado"/>
          <p:cNvSpPr/>
          <p:nvPr/>
        </p:nvSpPr>
        <p:spPr>
          <a:xfrm>
            <a:off x="1835280" y="450864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6 Rectángulo redondeado" descr=""/>
          <p:cNvPicPr/>
          <p:nvPr/>
        </p:nvPicPr>
        <p:blipFill>
          <a:blip r:embed="rId1"/>
          <a:stretch/>
        </p:blipFill>
        <p:spPr>
          <a:xfrm>
            <a:off x="4950000" y="878040"/>
            <a:ext cx="3816000" cy="3273120"/>
          </a:xfrm>
          <a:prstGeom prst="rect">
            <a:avLst/>
          </a:prstGeom>
          <a:ln w="0">
            <a:noFill/>
          </a:ln>
        </p:spPr>
      </p:pic>
      <p:sp>
        <p:nvSpPr>
          <p:cNvPr id="371" name="7 Flecha derecha"/>
          <p:cNvSpPr/>
          <p:nvPr/>
        </p:nvSpPr>
        <p:spPr>
          <a:xfrm rot="20121000">
            <a:off x="3438360" y="3160800"/>
            <a:ext cx="1368720" cy="1081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http://us.123rf.com/400wm/400/400/kgtoh/kgtoh0812/kgtoh081200532/3972904-bandera-de-la-india-pa-s-s-mbolo-nacional-de-ilustraci-n.jpg"/>
          <p:cNvPicPr/>
          <p:nvPr/>
        </p:nvPicPr>
        <p:blipFill>
          <a:blip r:embed="rId2"/>
          <a:stretch/>
        </p:blipFill>
        <p:spPr>
          <a:xfrm>
            <a:off x="19080" y="201600"/>
            <a:ext cx="3992400" cy="2901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s://www.cia.gov/library/publications/the-world-factbook/graphics/flags/large/ch-lgflag.gif"/>
          <p:cNvPicPr/>
          <p:nvPr/>
        </p:nvPicPr>
        <p:blipFill>
          <a:blip r:embed="rId3"/>
          <a:stretch/>
        </p:blipFill>
        <p:spPr>
          <a:xfrm>
            <a:off x="4846680" y="3932280"/>
            <a:ext cx="4309920" cy="3133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52600"/>
            <a:ext cx="51228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a India y para Jawaharlal Nehru, el MNA era una forma en que podían devolver el golpe a E.U. sin necesidad de involucrarse con la UR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 esto, la India ganaba influencia como líder mundial en potencia dentro del Movimiento de los No-Alinead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2" descr="http://www.ceeby.com/people/images/nehru.jpg"/>
          <p:cNvPicPr/>
          <p:nvPr/>
        </p:nvPicPr>
        <p:blipFill>
          <a:blip r:embed="rId1"/>
          <a:stretch/>
        </p:blipFill>
        <p:spPr>
          <a:xfrm>
            <a:off x="4857840" y="3108240"/>
            <a:ext cx="4017960" cy="3578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10:04Z</dcterms:created>
  <dc:creator>Lic. Eduardo</dc:creator>
  <dc:description/>
  <dc:language>en-US</dc:language>
  <cp:lastModifiedBy>Lic. Eduardo</cp:lastModifiedBy>
  <dcterms:modified xsi:type="dcterms:W3CDTF">2012-03-07T07:15:50Z</dcterms:modified>
  <cp:revision>13</cp:revision>
  <dc:subject/>
  <dc:title>Movimiento de los No Alineados</dc:title>
</cp:coreProperties>
</file>